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9EBD8-B2CD-4071-9E76-9C248EF860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26F20-DBAA-4E1B-89CF-D26DA5A8C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3E893-4DE6-4D6F-A2F8-2B7EDD36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FCC93-AE32-4082-839A-5884CF043D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CE79B-B52C-4D30-B294-DBAB582D5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EEC00-1806-46C0-B00C-88F7E8CD6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AA21C-B542-4B97-88AF-B8BB98BF6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D5D76-CCEE-4F7D-BB4D-940F58D7B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0226B-8EA3-42CC-B4E7-D7E29BD55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C491A-D40E-42AE-B4B8-005943477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3A326-A4F6-4537-9D45-5E851FBEA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C7315-3296-447D-838B-9F84161E6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1FD6E-85AE-45E4-87AA-95495F87011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baike.baidu.com/view/331961.htm" TargetMode="External"/><Relationship Id="rId2" Type="http://schemas.openxmlformats.org/officeDocument/2006/relationships/hyperlink" Target="http://baike.baidu.com/view/994931.htm" TargetMode="Externa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1988640"/>
            <a:ext cx="6048360" cy="25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四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镇咳、祛痰及平喘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右美沙芬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extromethorpha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右甲吗南，美沙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前临床上应用最广的镇咳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依赖性中枢性镇咳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镇咳作用与可待因相似或略强，起效快。治疗剂量不抑制呼吸。无镇痛作用亦无依赖性和耐受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干咳及手术后无法进食的咳嗽患者。如上呼吸道感染、急慢性支气管炎、支气管哮喘及肺结核所致咳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头晕、轻度嗜睡、口干、便秘、嗳气等。口服吸收好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起效，作用可维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喷托维林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entoxyverin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咳必清，维静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依赖性中枢性镇咳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人工合成药，能直接抑制咳嗽中枢，镇咳作用约为可待因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/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兼具外周性镇咳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急性呼吸道炎症引起的干咳，必要时可与氯化铵等祛痰药并用，以增加呼吸道腺体分泌，既能减轻局部刺激，又可适当抑制过度兴奋引起的咳嗽反射，增强止咳效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苯佐那酯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enzonat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退嗽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丁卡因衍生物，属外周性镇咳药，具有局麻、扩张支气管平滑肌和祛痰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抑制呼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常用于急性支气管炎、哮喘和肺炎所引起的干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起效，维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。服用该药时勿将药丸咬碎以免口腔产生麻木感。偶有轻度头晕和嗜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39640" y="1413000"/>
            <a:ext cx="7794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草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lycyrrhiz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甘草流浸膏和糖浆等口服后可覆盖在发炎的咽部黏膜表面，起保护作用，使局部黏膜少受刺激，达到止咳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祛痰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4771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1680" y="4348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祛痰药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刺激性祛痰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后刺激胃黏膜引起恶心，反射性促进呼吸道腺体分泌增加，稀释痰液使易于排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氯化铵、愈创甘油醚等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黏液溶解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痰液中的黏液分解或黏度下降，使痰变稀，而便于咳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溴己新和乙酰半胱氨酸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920" y="2952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080" y="1196640"/>
            <a:ext cx="88963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铵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mon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刺激胃黏膜，反射性地促进呼吸道分泌增加而稀释黏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量祛痰作用不强，主要用于组成祛痰合剂，适于炎症初期痰少而稠，不易咳出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酸弱碱盐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酸化体液和尿液；也促进碱性药物的排泄，纠正低氯性碱中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大量服用刺激胃。片剂宜用水溶解于饭后服用，减少对胃刺激，溃疡病患者慎用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可使血氨增高，肝性脑病患者禁用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利尿作用  增加肾小管氯离子浓度，肾功能严重减退者禁用；密切观察有否低血钾症状出现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皮疹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680" y="4554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愈创甘油醚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uaiphenes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甲甘苯二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刺激性祛痰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兼有轻度镇咳和消毒防腐作用，可减轻痰液恶臭。用于慢性支气管炎的多痰咳嗽，多与其它镇咳平喘药合用或配成复方制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恶心、胃肠不适等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右美沙芬合用时，不能用于服用单胺氧化酶抑制剂的患者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1680" y="4158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溴己新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romhexin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必嗽平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黏液溶解剂，可裂解痰中酸性黏多糖纤维，并抑制其合成，降低痰中唾液酸的含量，使痰黏度降低易于咳出；还具促进呼吸道黏膜的纤毛运动及具有恶心性祛痰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用于各种气管炎、支气管扩张症，慢性肺部炎症和支气管哮喘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对胃黏膜有刺激性，偶有恶心、胃部不适，胃溃疡者慎用；个别患者血清转氨酶暂时升高，停药即可恢复正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1680" y="47448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160" y="1125360"/>
            <a:ext cx="91440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盐酸氨溴索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broxol hydro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溴环己胺醇（商品名：沐舒坦，兰勃素 ，贝莱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溴己新的活性代谢产物，作用强于溴己新，且毒性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广泛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抑制痰中酸性黏多糖的合成，使痰黏度降低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刺激支气管黏液分泌，使痰液稀释，黏稠性降低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增加肺表面活性物质的生成和分泌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降低黏液与纤毛的黏附力，激活黏液纤毛功能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或雾化吸入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内起效，可维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。目前临床应用广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  主要是消化道症状，胃溃疡患者慎用。服药时避免联用强力镇咳药，以免抑制咳嗽反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矩形 5"/>
          <p:cNvSpPr/>
          <p:nvPr/>
        </p:nvSpPr>
        <p:spPr>
          <a:xfrm>
            <a:off x="838080" y="1268280"/>
            <a:ext cx="79930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掌握：平喘药的分类、各类平喘药的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熟悉：依赖性中枢性镇咳药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了解：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常见祛痰药的药理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常见镇咳药的分类及各类的作用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五）乙酰半胱氨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cetylcystein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痰易净（商品名：易维适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黏液溶解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巯基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S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）可与黏痰中黏蛋白双硫键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S-S-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）结合，促使蛋白链裂解，从而降低黏痰的黏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使脓性痰中的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纤维断裂，因此不仅溶解白色黏痰，而且也溶解脓性黏痰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炎性损伤及抗自由基过氧化作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吸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生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酰半胱氨酸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etylcysteine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大量黏痰阻塞气道不易吸出者。紧急时气管内滴入，可迅速降低痰的黏稠度，便于吸痰。现多用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OPD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特发性肺间质疾病的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药前需将患者咽喉部和气管内的痰液吸净，以免大量黏稠度下降的痰液，随呼吸进入气道末稍部，引起小气道阻塞，故无吸痰器时不可直接向气管内滴入药物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药后协助患者尽量咳嗽或进行体位引流，以利排痰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特殊气味，对呼吸道有刺激性，减量后症状可消失，哮喘患者或老年严重肺功能不全者慎用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水溶液易在空气中氧化变质，应现用现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196640"/>
            <a:ext cx="861048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糜蛋白酶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hymotryps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α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糜蛋白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蛋白分解酶，能迅速分解肽链，稀释痰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应症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黏稠痰、脓性痰的患者，适用于呼吸道化脓性炎症时的祛痰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清除化脓创面，助肉芽生长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眼科手术时松解睫状韧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可产生过敏反应，用前需做过敏试验，如引起过敏反应，可用抗组胺类药物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严重肝疾患及凝血功能异常者忌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水溶液极不稳定，注射用水现用现配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准桃金娘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myrtol stsndardized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又称强力稀化黏素（商品名：吉诺通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调节气道分泌，增加浆液比例，恢复黏液清除功能；碱化黏液，降低其黏度；刺激纤毛运动，加快黏液运送；有一定抗炎和杀菌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消除呼吸时的恶臭气味。持久用药，可改善或治愈呼吸道的慢性炎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甚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肠溶胶囊，宜在餐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用较多的凉开水送服。勿将胶囊掰开或咀嚼服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不含糖，因而可用于糖尿病患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15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节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平喘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4771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平喘药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476360" y="1341360"/>
            <a:ext cx="606744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支气管舒张剂   缓解哮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肾上腺素受体激动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茶碱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胆碱药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抗炎治疗  控制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糖皮质激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过敏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白三烯调节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1258920" y="1989000"/>
            <a:ext cx="5943600" cy="97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二、常用药物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沙丁胺醇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salbutamol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79280" y="1371240"/>
            <a:ext cx="856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又称舒喘灵（商品名：万托林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和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短效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受体激动剂，支气管哮喘急性发作首选的治疗药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和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吸入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~1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作用达高峰，维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~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；口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生效，维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~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。口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。按需吸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0.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4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。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沙丁胺醇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salbutamol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发生率  口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&gt;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吸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骨骼肌震颤  常见，多见手指震颤，随着用药时间的延长可减轻或消失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脏反应 一般治疗量少见，大剂量可引起心悸、心动过速甚至心律失常，一般减量即恢复，必要时停药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耐受性 久用降低疗效，停药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后可恢复敏感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低钾血症 剂量过大或与糖皮质激素合用时，可降低血钾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老年人、青光眼、心衰、高血压、糖尿病、甲状腺机能亢进患者慎用，孕妇不宜使用本药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沙丁胺醇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salbutamol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发作时首选吸入给药，应指导患者掌握正确的吸入方法：嘱患者作深而慢的吸气，吸入药物后屏气片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耐受性  对经常使用本品者，应同时使用吸入或全身皮质类固醇治疗。若病人症状较重，需要每天多次吸入本品者，应同时监测最大呼气流速，并应到医院就诊，请专业医师指导治疗和用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给药前后注意心率、心律和血压变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镇咳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4771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广泛，有平喘、强心、利尿、扩血管和中枢兴奋等作用，其平喘作用机制较复杂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扩张支气管平滑肌，为其主要作用，包括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771560" indent="-4572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抑制磷酸二酯酶，使细胞内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cAMP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cGMP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水平升高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舒张支气管平滑肌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771560" indent="-4572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阻断腺苷受体，可预防腺苷引起的哮喘患者的气道收缩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771560" indent="-4572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增加内源性儿茶酚胺的释放，间接导致支气管扩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炎作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期较低血浆浓度的茶碱具有免疫调节作用与抗炎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70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增加膈肌收缩力，减轻膈肌疲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支气管哮喘：舒张支气管作用弱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受体激动药，起效慢。急性重症哮喘时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受体激动药联用，静脉注射。口服用于慢性哮喘的维持治疗，以防止急性发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慢性阻塞性肺疾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急性心功能不全和心源性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吸收完全，其生物利用度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6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达到有效浓度所需剂量个体差异较大，必要时应监测血药浓度，使给药方案个体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，极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b523"/>
                </a:solidFill>
                <a:uFillTx/>
                <a:latin typeface="Arial"/>
                <a:ea typeface="宋体"/>
                <a:hlinkClick r:id="rId1"/>
              </a:rPr>
              <a:t>静脉注射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， </a:t>
            </a:r>
            <a:r>
              <a:rPr b="0" lang="en-US" sz="2400" spc="-1" strike="noStrike" u="sng">
                <a:solidFill>
                  <a:srgbClr val="ddb523"/>
                </a:solidFill>
                <a:uFillTx/>
                <a:latin typeface="Arial"/>
                <a:ea typeface="宋体"/>
                <a:hlinkClick r:id="rId2"/>
              </a:rPr>
              <a:t>静脉滴注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2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。注射给药，极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。静脉给药均应充分稀释后缓慢给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茶碱不良反应的发生率与其血药浓度密切相关，血药浓度较高时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&gt;20mg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易发生不良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消化道反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见上腹部痛、恶心、呕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枢兴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失眠、震颤、激动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急性毒性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脉注射过快或浓度过大时，出现严重的不良反应如心动过速等心律失常、低血压、谵妄、惊厥、昏迷等，甚至呼吸心搏停止致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本药及其衍生物过敏者；活动性消化性溃疡者；未经控制的惊厥性疾病患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脉注射氨茶碱必须稀释后缓慢注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稀释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葡萄糖注射液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后，以≤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的注射速度缓慢推注，注射时间不得短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；静脉滴注时，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%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葡萄糖注射液将本药稀释成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mg/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溶液后，缓慢滴注，维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饭后服药以减轻消化道反应，同时避免饮用含大量咖啡因的饮料或食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控释片或缓释片应整片吞服，勿嚼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期使用该药者，应监测血药浓度，尤其是儿童、老年人、肝肾功能不全、心衰和慢性阻塞性肺疾病者，根据血药浓度及时调整剂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糖皮质激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187280" y="1413000"/>
            <a:ext cx="6499440" cy="45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倍氯米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为地塞米松衍生物，局部抗炎作用为地塞米松数百倍，详见第二十六章 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用于哮喘的长期控制，首选吸入疗法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不良反应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吸入后迅速被灭活，几乎无全身副作用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长期使用易发生咽部念珠菌感染，故每次吸入后应漱口，以减少发生率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扎鲁司特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zafirlukast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高度选择性白三烯受体阻断药，竞争性抑制白三烯活性，拮抗白三烯所致的支气管收缩和炎症，减轻哮喘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用于多种抗原、阿斯匹林、运动及冷空气所致的哮喘。长期用药以预防哮喘发作，但不适用于治疗哮喘急性发作。与糖皮质激素合用可获得协同抗炎作用，并减少糖皮质激素的用量。对有些吸入糖皮质激素不能控制的哮喘患者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食物能降低扎鲁司特的生物利用度，应避免在进食时服用；可有轻度头痛、咽炎、鼻炎、胃肠道反应，偶见转氨酶升高，停药后可消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6000" y="430200"/>
            <a:ext cx="85676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五）色甘酸钠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sodium cromoglycate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11280" y="1196640"/>
            <a:ext cx="80452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稳定肥大细胞膜：抑制肥大细胞脱颗粒效应，减少致敏介质的释放，且能阻断引起支气管痉挛的神经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预防哮喘发作  提前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用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对有明确过敏原的儿童及运动性哮喘疗效较好；对感染所致的哮喘疗效较差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也用于过敏性鼻炎、溃疡性结肠炎及其它过敏性疾病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非脂溶性药物，口服很少吸收，临床采用干粉剂定量雾化吸入，连用数日后方可见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少，偶见吸药后咽喉与气管刺激，引起咽痒、呛咳或支气管痉挛。可在吸药前先用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β</a:t>
            </a:r>
            <a:r>
              <a:rPr b="1" lang="en-US" sz="24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受体兴奋剂少量吸入以预防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67000" y="404640"/>
            <a:ext cx="6556320" cy="5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镇咳药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1383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根据作用机制分为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类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971640" indent="-514440">
              <a:spcBef>
                <a:spcPts val="700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中枢性镇咳药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直接抑制延脑咳嗽中枢而发挥镇咳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赖性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主要是阿片类生物碱及其衍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镇咳效应大，但具有依赖性，临床上仅用可待因等几种依赖性较小的药物作为镇咳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;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依赖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外周性镇咳药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过抑制咳嗽反射弧中的感受器、传入神经、传出神经或效应器中任何一环节而发挥镇咳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280" y="2707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可待因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de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又称甲基吗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阿片类生物碱，选择性抑制咳嗽中枢，为依赖性中枢性镇咳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强而迅速，其镇咳强度亦具镇痛和呼吸抑制等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支气管腺体分泌和纤毛运动，使痰液黏稠度增高，黏痰且量多者不宜应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各种原因引起的 </a:t>
            </a:r>
            <a:r>
              <a:rPr b="1" lang="zh-CN" sz="2400" spc="-1" strike="noStrike" u="sng">
                <a:solidFill>
                  <a:srgbClr val="046ca6"/>
                </a:solidFill>
                <a:uFillTx/>
                <a:latin typeface="Arial"/>
                <a:ea typeface="宋体"/>
              </a:rPr>
              <a:t>剧烈 干咳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对胸膜炎干咳伴胸痛者尤其适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吸收迅速完全，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起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脏代谢，经肾脏随尿液排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给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极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144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可待因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de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见恶心、呕吐、便秘和眩晕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口服剂量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可出现兴奋及烦躁不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重复给药可产生耐药性，久用产生依赖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支气管平滑肌有轻度收缩作用，呼吸不畅者慎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呼吸困难、昏迷及痰多者禁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可待因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de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可静脉给药，口服给药宜与食物或牛奶同服，以免发生胃肠道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缓释片必须整片吞服，不可截开或嚼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乙醇可增强该药的镇静作用，故用药期间不可饮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期应用可导致便秘，慢性便秘患者不可长期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告知患者该药服用过量可出现头晕、嗜睡、精神错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按麻醉剂管理、控制使用，未经医生允许不可擅自发药。其处方须具备麻醉药品处方权资格证书的医生，应用红色处方开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可待因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de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6:59:50Z</dcterms:modified>
  <cp:revision>103</cp:revision>
  <dc:subject/>
  <dc:title>内科护理学</dc:title>
</cp:coreProperties>
</file>